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F15E-7ABD-4BD0-BA13-D0BDF6CF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AEDA-6E0D-4185-A9E1-0B307432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727D-E6B6-478A-97AF-5C5269ED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6B2F-96EE-4C34-9278-FC9E130B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7603-672A-4740-BC7D-8255176B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D773-BB7A-4C5C-AF05-BAC87279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9B36-5C07-450C-A5C9-6E11DE12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33C8-B669-467E-9E36-C0B92202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D8BB-9728-4419-B6CC-CE6AD6AA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3EA2-35F6-439E-A730-87FF52E8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5788-9098-4932-A0ED-F0EDA5B7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F823-51D2-4F81-9C17-CA081085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7997-A9BC-48B5-9F7E-DB7CE934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AB59-E53A-4810-8655-DCCDA964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2802-BFCF-48CE-9937-D62C25E1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ED70-646C-428A-8D74-B635FE32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6F3C-9DC3-401D-886D-8C86B209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C9ED-BD53-4504-95B4-A81A04DC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DE07-C1D9-40B9-8C18-647B4D06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18C3-236D-41B3-B0EB-5331207B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26F1-F3CD-4202-AFCC-0B951880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2272-7F1D-4A21-A993-D5470612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1DE9-08CA-4697-AE79-A8012E22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3426-AA73-4CDA-A4E9-7082879A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9F05-029E-41C7-B916-C595A52CC94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FB87-0601-4460-BF58-26D2DE1D66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D1A5-B451-4D70-9852-52308B8C9D3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4123-30F7-410A-95C9-B73BBC7F68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00"/>
                </a:solidFill>
                <a:latin typeface="Times New Roman"/>
              </a:rPr>
              <a:t>CUENTAS TRIBUTARI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8195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00"/>
                </a:solidFill>
                <a:latin typeface="Times New Roman"/>
              </a:rPr>
              <a:t>Algunas cuestiones controvertid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4864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 CP y Abog. Flavia Irene Melz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A3F9-B787-4D21-BAEB-2F45B5D96D2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B201F-EFF8-4ACF-A742-9FC09BD0A3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500" spc="-1" strike="noStrike">
                <a:solidFill>
                  <a:srgbClr val="ffff00"/>
                </a:solidFill>
                <a:latin typeface="Times New Roman"/>
              </a:rPr>
              <a:t>RETENCIONES Y PERCEPCIONES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2057400"/>
            <a:ext cx="7619760" cy="45972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RG 2406/08  Art. 11: LIMITACIONES AL CÓMPU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4114800"/>
            <a:ext cx="4114800" cy="703440"/>
          </a:xfrm>
          <a:prstGeom prst="rect">
            <a:avLst/>
          </a:prstGeom>
          <a:gradFill rotWithShape="0">
            <a:gsLst>
              <a:gs pos="0">
                <a:srgbClr val="00cccc"/>
              </a:gs>
              <a:gs pos="100000">
                <a:srgbClr val="005e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4568"/>
                </a:solidFill>
                <a:latin typeface="Times New Roman"/>
              </a:rPr>
              <a:t>¿SUSPENDIDO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2895480"/>
            <a:ext cx="251460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2971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4568"/>
                </a:solidFill>
                <a:latin typeface="Times New Roman"/>
              </a:rPr>
              <a:t>RG 246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 CP y Abog. Flavia Irene Melz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DBF-AD0E-4393-B903-36F6EF861B6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165E72-D1CC-45B6-8EE4-477A500D63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00"/>
                </a:solidFill>
                <a:latin typeface="Times New Roman"/>
              </a:rPr>
              <a:t>ANTICIP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3489480"/>
            <a:ext cx="6248160" cy="627480"/>
          </a:xfrm>
          <a:prstGeom prst="rect">
            <a:avLst/>
          </a:prstGeom>
          <a:gradFill rotWithShape="0">
            <a:gsLst>
              <a:gs pos="0">
                <a:srgbClr val="00cccc"/>
              </a:gs>
              <a:gs pos="100000">
                <a:srgbClr val="005e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500" spc="-1" strike="noStrike">
                <a:solidFill>
                  <a:srgbClr val="ff4568"/>
                </a:solidFill>
                <a:latin typeface="Times New Roman"/>
              </a:rPr>
              <a:t>¿PUEDEN COMPENSARSE?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71800" y="1905120"/>
            <a:ext cx="3352680" cy="99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 CP y Abog. Flavia Irene Melz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2CA0-206B-4BA3-9C7A-E7AF842115D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1FF423-4FD2-48C4-A9AD-84A1251EB6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00"/>
                </a:solidFill>
                <a:latin typeface="Times New Roman"/>
              </a:rPr>
              <a:t>Saldos Líquidos y Exigibles a favor de la AFIP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2666880"/>
            <a:ext cx="4343400" cy="1161000"/>
          </a:xfrm>
          <a:prstGeom prst="rect">
            <a:avLst/>
          </a:prstGeom>
          <a:gradFill rotWithShape="0">
            <a:gsLst>
              <a:gs pos="0">
                <a:srgbClr val="00cccc"/>
              </a:gs>
              <a:gs pos="100000">
                <a:srgbClr val="005e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500" spc="-1" strike="noStrike">
                <a:solidFill>
                  <a:srgbClr val="ff4568"/>
                </a:solidFill>
                <a:latin typeface="Times New Roman"/>
              </a:rPr>
              <a:t>SE REPUTABAN CONOCIDO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91120" y="4251240"/>
            <a:ext cx="4343400" cy="1161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500" spc="-1" strike="noStrike">
                <a:solidFill>
                  <a:srgbClr val="0066ff"/>
                </a:solidFill>
                <a:latin typeface="Times New Roman"/>
              </a:rPr>
              <a:t>EXIGIBLES Y EJECUTABL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1523880"/>
            <a:ext cx="457200" cy="106704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1523880"/>
            <a:ext cx="457200" cy="2438640"/>
          </a:xfrm>
          <a:prstGeom prst="downArrow">
            <a:avLst>
              <a:gd name="adj1" fmla="val 50000"/>
              <a:gd name="adj2" fmla="val 133346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 CP y Abog. Flavia Irene Melz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D87E-9C29-48C0-9464-7DB9BE78230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32114-6FA2-462D-BC84-5F6743F6C6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00"/>
                </a:solidFill>
                <a:latin typeface="Times New Roman"/>
              </a:rPr>
              <a:t>NORMATIVA:</a:t>
            </a:r>
            <a:br>
              <a:rPr sz="4400"/>
            </a:br>
            <a:r>
              <a:rPr b="0" lang="es-AR" sz="4400" spc="-1" strike="noStrike">
                <a:solidFill>
                  <a:srgbClr val="ffff00"/>
                </a:solidFill>
                <a:latin typeface="Times New Roman"/>
              </a:rPr>
              <a:t>RG 2381/07 Sustituida por:</a:t>
            </a:r>
            <a:br>
              <a:rPr sz="4400"/>
            </a:br>
            <a:r>
              <a:rPr b="0" lang="es-AR" sz="4400" spc="-1" strike="noStrike">
                <a:solidFill>
                  <a:srgbClr val="ffff00"/>
                </a:solidFill>
                <a:latin typeface="Times New Roman"/>
              </a:rPr>
              <a:t>RG 2406/08 Dejada sin efecto por:</a:t>
            </a:r>
            <a:br>
              <a:rPr sz="4400"/>
            </a:br>
            <a:r>
              <a:rPr b="0" lang="es-AR" sz="4400" spc="-1" strike="noStrike">
                <a:solidFill>
                  <a:srgbClr val="ff33cc"/>
                </a:solidFill>
                <a:latin typeface="Times New Roman"/>
              </a:rPr>
              <a:t>RG 2463 (BO 27/06/08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 CP y Abog. Flavia Irene Melz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32F9-D336-486D-8EF8-8F07E59E834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788D2-37CB-4016-8887-45D7BAC824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00"/>
                </a:solidFill>
                <a:latin typeface="Times New Roman"/>
              </a:rPr>
              <a:t>CREDITOS Y DEUD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 CP y Abog. Flavia Irene Melz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858E-CDC0-4EFE-B036-2EFEC277EBB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27C6C-36F8-4DBD-B5C1-1A79F387C1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00"/>
                </a:solidFill>
                <a:latin typeface="Times New Roman"/>
              </a:rPr>
              <a:t>Emergentes de obligaci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1981080"/>
            <a:ext cx="335304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cc"/>
                </a:solidFill>
                <a:latin typeface="Times New Roman"/>
              </a:rPr>
              <a:t>IMPOSITI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3029040"/>
            <a:ext cx="335268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cc"/>
                </a:solidFill>
                <a:latin typeface="Times New Roman"/>
              </a:rPr>
              <a:t>ADUANE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4248000"/>
            <a:ext cx="335268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cc"/>
                </a:solidFill>
                <a:latin typeface="Times New Roman"/>
              </a:rPr>
              <a:t>PREVISIO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51814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5181480"/>
            <a:ext cx="609480" cy="68580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51814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33cc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 CP y Abog. Flavia Irene Melz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9A42-C8DA-4B96-BB72-5E72178029F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F1DDF-B42C-4F2B-91F7-187F3BC525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500" spc="-1" strike="noStrike">
                <a:solidFill>
                  <a:srgbClr val="ffffff"/>
                </a:solidFill>
                <a:latin typeface="Times New Roman"/>
              </a:rPr>
              <a:t>RG 2643- Art.4</a:t>
            </a:r>
            <a:r>
              <a:rPr b="0" lang="es-AR" sz="35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es-AR" sz="3500" spc="-1" strike="noStrike">
                <a:solidFill>
                  <a:srgbClr val="ffff00"/>
                </a:solidFill>
                <a:latin typeface="Times New Roman"/>
              </a:rPr>
              <a:t>Teniendo en cuenta que los contribuyentes y/o responsables revisten –respecto del Fisco- el carácter de </a:t>
            </a:r>
            <a:r>
              <a:rPr b="0" i="1" lang="es-AR" sz="3500" spc="-1" strike="noStrike">
                <a:solidFill>
                  <a:srgbClr val="ff33cc"/>
                </a:solidFill>
                <a:latin typeface="Times New Roman"/>
              </a:rPr>
              <a:t>deudores</a:t>
            </a:r>
            <a:r>
              <a:rPr b="0" i="1" lang="es-AR" sz="3500" spc="-1" strike="noStrike">
                <a:solidFill>
                  <a:srgbClr val="ffff00"/>
                </a:solidFill>
                <a:latin typeface="Times New Roman"/>
              </a:rPr>
              <a:t> por las obligaciones a su cargo y de </a:t>
            </a:r>
            <a:r>
              <a:rPr b="0" i="1" lang="es-AR" sz="3500" spc="-1" strike="noStrike">
                <a:solidFill>
                  <a:srgbClr val="ff33cc"/>
                </a:solidFill>
                <a:latin typeface="Times New Roman"/>
              </a:rPr>
              <a:t>acreedores</a:t>
            </a:r>
            <a:r>
              <a:rPr b="0" i="1" lang="es-AR" sz="3500" spc="-1" strike="noStrike">
                <a:solidFill>
                  <a:srgbClr val="ffff00"/>
                </a:solidFill>
                <a:latin typeface="Times New Roman"/>
              </a:rPr>
              <a:t> por los créditos a su favor, el sistema expondrá tales situaciones en </a:t>
            </a:r>
            <a:r>
              <a:rPr b="0" i="1" lang="es-AR" sz="3500" spc="-1" strike="noStrike">
                <a:solidFill>
                  <a:srgbClr val="ff33cc"/>
                </a:solidFill>
                <a:latin typeface="Times New Roman"/>
              </a:rPr>
              <a:t>cuentas de activo y pasivo</a:t>
            </a:r>
            <a:r>
              <a:rPr b="0" i="1" lang="es-AR" sz="3500" spc="-1" strike="noStrike">
                <a:solidFill>
                  <a:srgbClr val="ffff00"/>
                </a:solidFill>
                <a:latin typeface="Times New Roman"/>
              </a:rPr>
              <a:t>, respectivamente....</a:t>
            </a:r>
            <a:br>
              <a:rPr sz="3500"/>
            </a:b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 CP y Abog. Flavia Irene Melz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9719-83E8-46BE-BB74-09C45BCE4A3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22AFB-9091-4F4C-B1CE-51D054CCB3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00"/>
                </a:solidFill>
                <a:latin typeface="Times New Roman"/>
              </a:rPr>
              <a:t>La cuenta tributaria frente al instituto de la COMPENSACIÓN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2511360"/>
            <a:ext cx="7696080" cy="825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REVISIÓN DE LA DOCTRINA “URQUIA PERETTI” (CSJN 16/09/199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3882960"/>
            <a:ext cx="7696080" cy="157212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75175e"/>
              </a:gs>
            </a:gsLst>
            <a:path path="rect">
              <a:fillToRect l="50000" t="50000" r="50000" b="50000"/>
            </a:path>
          </a:gra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cccc"/>
                </a:solidFill>
                <a:latin typeface="Times New Roman"/>
              </a:rPr>
              <a:t>REVISIÓN DE LA DOCTRI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cccc"/>
                </a:solidFill>
                <a:latin typeface="Times New Roman"/>
              </a:rPr>
              <a:t>“</a:t>
            </a:r>
            <a:r>
              <a:rPr b="1" lang="es-AR" sz="2400" spc="-1" strike="noStrike">
                <a:solidFill>
                  <a:srgbClr val="00cccc"/>
                </a:solidFill>
                <a:latin typeface="Times New Roman"/>
              </a:rPr>
              <a:t>ENERCOM SRL” (CSJN 25/04/2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cccc"/>
                </a:solidFill>
                <a:latin typeface="Times New Roman"/>
              </a:rPr>
              <a:t>“</a:t>
            </a:r>
            <a:r>
              <a:rPr b="1" lang="es-AR" sz="2400" spc="-1" strike="noStrike">
                <a:solidFill>
                  <a:srgbClr val="00cccc"/>
                </a:solidFill>
                <a:latin typeface="Times New Roman"/>
              </a:rPr>
              <a:t>PLAVINIL ARGENTINA” (CSJN 17/04/200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1676520"/>
            <a:ext cx="17524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 CP y Abog. Flavia Irene Melz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522C-B981-4FF9-8F4B-A1BB1B0695B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575D1-B138-4CC8-ADE8-F947F03265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500" spc="-1" strike="noStrike">
                <a:solidFill>
                  <a:srgbClr val="ffffff"/>
                </a:solidFill>
                <a:latin typeface="Times New Roman"/>
              </a:rPr>
              <a:t>RG 2643- Art.4</a:t>
            </a:r>
            <a:r>
              <a:rPr b="0" lang="es-AR" sz="35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es-AR" sz="3500" spc="-1" strike="noStrike">
                <a:solidFill>
                  <a:srgbClr val="ffff00"/>
                </a:solidFill>
                <a:latin typeface="Times New Roman"/>
              </a:rPr>
              <a:t>...</a:t>
            </a:r>
            <a:br>
              <a:rPr sz="3500"/>
            </a:br>
            <a:r>
              <a:rPr b="0" i="1" lang="es-AR" sz="3500" spc="-1" strike="noStrike">
                <a:solidFill>
                  <a:srgbClr val="ffff00"/>
                </a:solidFill>
                <a:latin typeface="Times New Roman"/>
              </a:rPr>
              <a:t>Los saldos acreedores serán identificados como de libre disponibilidad o de disponiblidad restringida, los cuales </a:t>
            </a:r>
            <a:r>
              <a:rPr b="0" i="1" lang="es-AR" sz="3500" spc="-1" strike="noStrike">
                <a:solidFill>
                  <a:srgbClr val="ff4568"/>
                </a:solidFill>
                <a:latin typeface="Times New Roman"/>
              </a:rPr>
              <a:t>se mantendrán en el período en el que se hubieren generado. </a:t>
            </a:r>
            <a:br>
              <a:rPr sz="3500"/>
            </a:b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 CP y Abog. Flavia Irene Melz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434C-380E-40CA-BEFC-4B24A52654A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8C1FA-9D19-45B0-A452-AA376FBF0A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00"/>
                </a:solidFill>
                <a:latin typeface="Times New Roman"/>
              </a:rPr>
              <a:t>Se deja sin ef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981080"/>
            <a:ext cx="7391520" cy="1007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33cc"/>
                </a:solidFill>
                <a:latin typeface="Times New Roman"/>
              </a:rPr>
              <a:t>Incumplimientos e Infracciones a tales obligacion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4187880"/>
            <a:ext cx="7391520" cy="1007640"/>
          </a:xfrm>
          <a:prstGeom prst="rect">
            <a:avLst/>
          </a:prstGeom>
          <a:gradFill rotWithShape="0">
            <a:gsLst>
              <a:gs pos="0">
                <a:srgbClr val="00cccc"/>
              </a:gs>
              <a:gs pos="100000">
                <a:srgbClr val="005e5e"/>
              </a:gs>
            </a:gsLst>
            <a:path path="rect">
              <a:fillToRect l="50000" t="50000" r="50000" b="50000"/>
            </a:path>
          </a:gra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Times New Roman"/>
              </a:rPr>
              <a:t>Acciones llevadas a cabo por AFIP sobre dichos incumplimientos e infraccione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 CP y Abog. Flavia Irene Melz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C855-7657-4249-8582-8E20CD00F77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17179-5771-4469-BE9D-675F490D58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00"/>
                </a:solidFill>
                <a:latin typeface="Times New Roman"/>
              </a:rPr>
              <a:t>Se habilitarán progresivamente nuevas Transacciones Informátic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1981080"/>
            <a:ext cx="335304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cc"/>
                </a:solidFill>
                <a:latin typeface="Times New Roman"/>
              </a:rPr>
              <a:t>COMPENS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3029040"/>
            <a:ext cx="335268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cc"/>
                </a:solidFill>
                <a:latin typeface="Times New Roman"/>
              </a:rPr>
              <a:t>DEVOLU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4248000"/>
            <a:ext cx="335268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cc"/>
                </a:solidFill>
                <a:latin typeface="Times New Roman"/>
              </a:rPr>
              <a:t>TRANSFER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5315040"/>
            <a:ext cx="335304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cc"/>
                </a:solidFill>
                <a:latin typeface="Times New Roman"/>
              </a:rPr>
              <a:t>REIMPUT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 CP y Abog. Flavia Irene Melz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1380-F7C6-464A-A516-E0B6359BB29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22535-09E9-4A77-B9FA-1073533599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2T19:19:01Z</dcterms:created>
  <dc:creator>CPCECABA</dc:creator>
  <dc:description/>
  <dc:language>en-US</dc:language>
  <cp:lastModifiedBy>CPCECABA</cp:lastModifiedBy>
  <dcterms:modified xsi:type="dcterms:W3CDTF">2008-07-25T22:23:40Z</dcterms:modified>
  <cp:revision>20</cp:revision>
  <dc:subject/>
  <dc:title>CUENTAS TRIBUTARIAS</dc:title>
</cp:coreProperties>
</file>